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mmburger%5B1%5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3EE1-E40D-4A5C-91E2-347173D8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95E-9C59-4944-AA0E-FCC9F975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07E-2DDE-4706-A11D-B4BAD64D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65E-DFA7-4F9C-A3E1-7A579E19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23C5-194A-4CA7-AB31-921E5FAC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AD3F-BB75-47F5-93E2-259E78C1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AAA6-EEA8-4C55-B92E-9BE36CA9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1680-3EE5-4005-A2F6-7F0BC24A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D734-DD53-468C-B4F8-E7ACB4E4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B06B-0F87-4FC2-AAEB-2C5C59A1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6410-49A8-46ED-A66F-7C6B36E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D7A-669D-4832-94A8-9584E7FD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9431-7F48-4491-9A55-FF127EE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97E3-49E7-43A1-BADC-D3C8460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07A0-CB4B-4222-82E4-FD892F80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3CCC-EF2F-4B19-B0E8-B53302B7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B325-DEDE-4C62-92DF-8B6C3090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D5E-9186-40BC-9B4E-ACDDDEA3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551-B2C0-482B-9DD6-65378DCA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637-F827-453C-8408-58A8C789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CA2-90BB-4EE6-BEAB-77F9A63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861-1EBA-4BBF-B616-A4AABB41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2A0-9A9F-4688-8E8C-A604C5B5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A4B-C9BA-4FB2-ACD2-D55DC70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E8CE-C601-44AF-8760-AB7156F8E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06B4-CF9A-48EE-8159-883F50EE2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mmburger%5B1%5D.wav"/><Relationship Id="rId3" Type="http://schemas.openxmlformats.org/officeDocument/2006/relationships/audio" Target="../media/mmburger%5B1%5D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80773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How To Do</a:t>
            </a:r>
            <a:br>
              <a:rPr sz="9600"/>
            </a:b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03848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3701880"/>
            <a:ext cx="1676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00680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523880"/>
            <a:ext cx="81532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with a “concluding phr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tate your thesis statement a bit diffe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ut your essay answer in a larger historical persp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114800"/>
            <a:ext cx="655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some trend/movement/idea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Beginning of some trend/movement/id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one &amp; beginning of an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o NOT end on the note that this is the reason we are where we are toda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Concluding”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Put It All Together, And . . .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1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80000"/>
            </a:outerShdw>
          </a:effectLst>
        </p:spPr>
      </p:pic>
      <p:sp>
        <p:nvSpPr>
          <p:cNvPr id="116" name=""/>
          <p:cNvSpPr/>
          <p:nvPr/>
        </p:nvSpPr>
        <p:spPr>
          <a:xfrm>
            <a:off x="228600" y="380880"/>
            <a:ext cx="8763120" cy="94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600"/>
                </a:solidFill>
                <a:latin typeface="Hot Pizza"/>
              </a:rPr>
              <a:t>Ummmmm,  Burger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58672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I Mean,  A Perfect Essay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501480"/>
            <a:ext cx="8077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A “Dazzling” D.B.Q.</a:t>
            </a:r>
            <a:br>
              <a:rPr sz="4800"/>
            </a:b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Is Like a Tasty Hambur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67160" y="228600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1143000" y="190008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33720" y="466092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op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-6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0880"/>
            <a:ext cx="80769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1600200"/>
            <a:ext cx="76201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ME &amp; PLA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eate a clear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SIS STATEM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underline or highlight it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ude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B-TOP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r categories you will discuss to support your thesis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cus on the question at hand—do NOT begin with a “flowery” sen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“laundry lis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014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4280040"/>
            <a:ext cx="586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asty” p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-12 sentences+ per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1800360"/>
            <a:ext cx="3809880" cy="200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455840"/>
            <a:ext cx="80773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your sub-topic or category in the firs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most of the documents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ng in supportive outside information. 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This is critic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*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.i.’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= “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tsid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form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were these documents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608120"/>
            <a:ext cx="83818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ttributi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is this p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y might they be signific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point of view (POV) of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ow reliable and accurate is the sour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tone or intent of the document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other information does this document call to mind?  Use all available c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09588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Remember, docs. can be used in a variety of way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04920"/>
            <a:ext cx="85345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8600"/>
                </a:solidFill>
                <a:latin typeface="Hot Pizza"/>
              </a:rPr>
              <a:t>Questions to Ask Yourself About the Docu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2057400"/>
            <a:ext cx="838224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omas Paine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in his pamphlet, </a:t>
            </a:r>
            <a:r>
              <a:rPr b="1" i="1" lang="en-US" sz="2700" spc="-1" strike="noStrike">
                <a:solidFill>
                  <a:srgbClr val="fa0000"/>
                </a:solidFill>
                <a:latin typeface="Comic Sans MS"/>
              </a:rPr>
              <a:t>Common Sense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,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said:  “………………….”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Joe Shmoe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a mid-Western delegate to the Republic convention in 1912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agreed with…..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19c historian, Frederick Jackson Turner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felt that ………………….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(Doc. 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621648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NEVER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 begin with:  In Document 3, 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57040"/>
            <a:ext cx="876312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How to Reference a Document in Your Essa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10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14600" y="4019400"/>
            <a:ext cx="6172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Bottom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holds it all together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-4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22906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380880"/>
            <a:ext cx="82296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The Concluding </a:t>
            </a:r>
            <a:br>
              <a:rPr sz="5000"/>
            </a:b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Paragrap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Ms. Susan M. Pojer</dc:creator>
  <dc:description/>
  <dc:language>en-US</dc:language>
  <cp:lastModifiedBy> </cp:lastModifiedBy>
  <dcterms:modified xsi:type="dcterms:W3CDTF">2007-04-06T18:59:16Z</dcterms:modified>
  <cp:revision>98</cp:revision>
  <dc:subject/>
  <dc:title>How To Do an AHAP DNQ</dc:title>
</cp:coreProperties>
</file>